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driveby.wav" ContentType="audio/x-wav"/>
  <Override PartName="/ppt/media/image15.wmf" ContentType="image/x-wmf"/>
  <Override PartName="/ppt/media/image21.wmf" ContentType="image/x-wmf"/>
  <Override PartName="/ppt/media/image19.wmf" ContentType="image/x-wmf"/>
  <Override PartName="/ppt/media/clap.wav" ContentType="audio/x-wav"/>
  <Override PartName="/ppt/media/image17.wmf" ContentType="image/x-wmf"/>
  <Override PartName="/ppt/media/image12.wmf" ContentType="image/x-wmf"/>
  <Override PartName="/ppt/media/image1.wmf" ContentType="image/x-wmf"/>
  <Override PartName="/ppt/media/CAMERA.WAV" ContentType="audio/x-wav"/>
  <Override PartName="/ppt/media/image24.wmf" ContentType="image/x-wmf"/>
  <Override PartName="/ppt/media/LASER.WAV" ContentType="audio/x-wav"/>
  <Override PartName="/ppt/media/image14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6.wmf" ContentType="image/x-wmf"/>
  <Override PartName="/ppt/media/image23.wmf" ContentType="image/x-wmf"/>
  <Override PartName="/ppt/media/image7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4.jpeg" ContentType="image/jpeg"/>
  <Override PartName="/ppt/media/image10.wmf" ContentType="image/x-wmf"/>
  <Override PartName="/ppt/media/image8.jpeg" ContentType="image/jpeg"/>
  <Override PartName="/ppt/media/EXPLODE.WAV" ContentType="audio/x-wav"/>
  <Override PartName="/ppt/media/image13.wmf" ContentType="image/x-wmf"/>
  <Override PartName="/ppt/media/image5.wmf" ContentType="image/x-wmf"/>
  <Override PartName="/ppt/media/image9.gif" ContentType="image/gif"/>
  <Override PartName="/ppt/media/image22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BB4-7404-4941-9370-DF3F23E0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59B-72C0-4BCF-BAF7-90BD7B37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EC4-A40D-4116-B65D-F2ABD5FB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867-8518-4F46-BB8E-8FAEFE07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67B-08D3-4046-88DA-30DED2EA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C08-3646-4D05-90AB-AE56DBE4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1AD-462D-43CE-8560-ED29E4CC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B47-C905-4293-B1B3-B065D895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D33-BB46-489C-8CD1-3D71C6E8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CD3-A2B1-43D3-931F-7B8D30D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D8C-FAA0-43D5-9C3A-91FBD4D6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DE3-1DAB-4740-928D-5C75730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1D0A-5E0C-43D2-8AEB-9621794A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jpeg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clap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clap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9.wmf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lap.wav"/><Relationship Id="rId4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3.wmf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lap.wav"/><Relationship Id="rId4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LASER.WAV"/><Relationship Id="rId12" Type="http://schemas.openxmlformats.org/officeDocument/2006/relationships/audio" Target="../media/EXPLODE.WAV"/><Relationship Id="rId13" Type="http://schemas.openxmlformats.org/officeDocument/2006/relationships/audio" Target="../media/clap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EXPLODE.WAV"/><Relationship Id="rId12" Type="http://schemas.openxmlformats.org/officeDocument/2006/relationships/audio" Target="../media/clap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vert the currency using the given exchange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209680"/>
          <a:ext cx="511812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51181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066680" y="3505320"/>
          <a:ext cx="4440240" cy="15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505320"/>
                    <a:ext cx="444024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914400" y="5181480"/>
          <a:ext cx="4413240" cy="80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5181480"/>
                    <a:ext cx="44132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1.  Convert $150 U.S dollars to German marks.                    ($1 U.S. is 1.8943 ma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8080" y="2666880"/>
            <a:ext cx="1295640" cy="4572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666880" y="3048120"/>
            <a:ext cx="1295640" cy="4572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867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6019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You will receive 284 German 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6781680" y="1828800"/>
            <a:ext cx="2057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vert the currency using the given exchange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2743200"/>
          <a:ext cx="635472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63547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3520" y="4114800"/>
          <a:ext cx="454320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45432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98320" y="5791320"/>
          <a:ext cx="4079880" cy="80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8320" y="5791320"/>
                    <a:ext cx="40798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129528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Convert $200 U.S dollars to Austrian schillings.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($1 U.S. is 13.3272 schill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480" y="3200400"/>
            <a:ext cx="1295640" cy="4572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90920" y="3581280"/>
            <a:ext cx="1295280" cy="4572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867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5029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You will receive 2,665 Austrian schill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257800" y="1295280"/>
            <a:ext cx="35812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62840" y="0"/>
            <a:ext cx="208116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ing Ratios to Write an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2874960"/>
          <a:ext cx="434340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74960"/>
                    <a:ext cx="43434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838080" y="3809880"/>
          <a:ext cx="879480" cy="129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809880"/>
                    <a:ext cx="879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267080" y="5257800"/>
          <a:ext cx="534960" cy="53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257800"/>
                    <a:ext cx="5349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1219320"/>
            <a:ext cx="746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3.  You took a survey of your classmates and found that 6 of the 27 classmates have public library cards. Use your results to make a prediction for  the 855 students enrolled in your scho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67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7913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bout 190 of the 855 students will have a library c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419720" y="2895480"/>
          <a:ext cx="4724280" cy="1125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2895480"/>
                    <a:ext cx="47242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990720" y="4572000"/>
          <a:ext cx="67140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4572000"/>
                    <a:ext cx="6714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1600200" y="3809880"/>
            <a:ext cx="15526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133720" y="4572000"/>
          <a:ext cx="880920" cy="501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4572000"/>
                    <a:ext cx="880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65680" y="4114800"/>
          <a:ext cx="922320" cy="501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65680" y="4114800"/>
                    <a:ext cx="9223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724280" y="4114800"/>
          <a:ext cx="1551240" cy="50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24280" y="4114800"/>
                    <a:ext cx="15512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62520" y="4648320"/>
          <a:ext cx="714240" cy="527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4648320"/>
                    <a:ext cx="71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334120" y="4648320"/>
          <a:ext cx="714240" cy="527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4120" y="4648320"/>
                    <a:ext cx="71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14640" y="462276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10280" y="462276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724280" y="5181480"/>
          <a:ext cx="1605240" cy="644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24280" y="5181480"/>
                    <a:ext cx="16052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61040" y="0"/>
            <a:ext cx="2082960" cy="281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ing Ratios to Write an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874960"/>
          <a:ext cx="434340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74960"/>
                    <a:ext cx="43434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3809880"/>
          <a:ext cx="879480" cy="129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809880"/>
                    <a:ext cx="879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267080" y="5257800"/>
          <a:ext cx="534960" cy="53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257800"/>
                    <a:ext cx="5349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1219320"/>
            <a:ext cx="7391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4.  You took a survey of your classmates and found that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 of the 27 classmates have public library cards. Use your results to make a prediction for the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930</a:t>
            </a: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 students enrolled in your scho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67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7913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bout 310 of the 930 students will have a library c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2895480"/>
          <a:ext cx="4724280" cy="1125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2895480"/>
                    <a:ext cx="47242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990720" y="4572000"/>
          <a:ext cx="67140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4572000"/>
                    <a:ext cx="6714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00200" y="3809880"/>
          <a:ext cx="1552680" cy="129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00200" y="3809880"/>
                    <a:ext cx="1552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133720" y="4572000"/>
          <a:ext cx="880920" cy="501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33720" y="4572000"/>
                    <a:ext cx="880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865680" y="4114800"/>
          <a:ext cx="922320" cy="501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65680" y="4114800"/>
                    <a:ext cx="9223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724280" y="4114800"/>
          <a:ext cx="1551240" cy="501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24280" y="4114800"/>
                    <a:ext cx="15512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62520" y="4648320"/>
          <a:ext cx="714240" cy="527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62520" y="4648320"/>
                    <a:ext cx="71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34120" y="4648320"/>
          <a:ext cx="714240" cy="527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34120" y="4648320"/>
                    <a:ext cx="71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14640" y="462276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462276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97280" y="5181480"/>
          <a:ext cx="1659240" cy="6447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697280" y="5181480"/>
                    <a:ext cx="16592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ind the percent. Round to the nearest whole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00200" y="2666880"/>
          <a:ext cx="114948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11494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5.  Tax of $2.88 on an item priced at $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191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The percent of the tax is 8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90920" y="3017880"/>
          <a:ext cx="175248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017880"/>
                    <a:ext cx="17524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292640" y="2971800"/>
          <a:ext cx="160668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2640" y="2971800"/>
                    <a:ext cx="16066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04920" y="17524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 find the percent, divide the amount of the tax by the price of the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ind the percent. Round to the nearest whole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82720" y="2666880"/>
          <a:ext cx="78264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2666880"/>
                    <a:ext cx="78264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6.  $3 tip on an meal priced at $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191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The percent of the tip is 18.75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14600" y="3048120"/>
          <a:ext cx="233676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048120"/>
                    <a:ext cx="2336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24280" y="3048120"/>
          <a:ext cx="262440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048120"/>
                    <a:ext cx="26244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04920" y="17524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 find the percent, divide the amount of the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ti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by the price of the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ea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9-22T12:26:02Z</dcterms:modified>
  <cp:revision>218</cp:revision>
  <dc:subject/>
  <dc:title>No Slide Title</dc:title>
</cp:coreProperties>
</file>